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923204-B47C-4041-9069-583ECC0E9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88828-9508-41AA-B4EE-7DF0B8009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422B81-D579-4AA9-A805-5C00C1860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F3E0B-F1FC-440C-B3AE-9CCE59958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31EFC-71CA-4AE0-ABCA-36E2804FC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CF29A-89E1-4BEE-828D-88A2911F4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F4092-F97D-4484-A2C8-FE1676AA9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391FC-5BD5-4EA4-B2B9-393D83992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A754A-E668-4494-847B-14D03E06E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09E6E-2161-4E57-AA31-5AC3158E8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411F1-647A-4B79-9C45-347986DFE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9FF4D-6A1B-48D6-AEEC-47D3908C34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9502A-A8DE-40CC-A509-AD14363DC2B0}"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07920"/>
            <a:ext cx="7772400" cy="360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Science Parks</a:t>
            </a:r>
            <a:endParaRPr b="0" lang="en-US" sz="9600" spc="-1" strike="noStrike">
              <a:solidFill>
                <a:srgbClr val="000000"/>
              </a:solidFill>
              <a:latin typeface="Calibri"/>
            </a:endParaRPr>
          </a:p>
        </p:txBody>
      </p:sp>
      <p:sp>
        <p:nvSpPr>
          <p:cNvPr id="42" name="PlaceHolder 2"/>
          <p:cNvSpPr>
            <a:spLocks noGrp="1"/>
          </p:cNvSpPr>
          <p:nvPr>
            <p:ph type="subTitle"/>
          </p:nvPr>
        </p:nvSpPr>
        <p:spPr>
          <a:xfrm>
            <a:off x="1371600" y="4149720"/>
            <a:ext cx="6400800" cy="148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898989"/>
                </a:solidFill>
                <a:latin typeface="Calibri"/>
              </a:rPr>
              <a:t>Cambridge: U.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irsts</a:t>
            </a:r>
            <a:endParaRPr b="0" lang="en-US" sz="4400" spc="-1" strike="noStrike">
              <a:solidFill>
                <a:srgbClr val="000000"/>
              </a:solidFill>
              <a:latin typeface="Calibri"/>
            </a:endParaRPr>
          </a:p>
        </p:txBody>
      </p:sp>
      <p:sp>
        <p:nvSpPr>
          <p:cNvPr id="44"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Science Park was established on the west coast of the United States near to Stanford University in the 1940'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one established in the United Kingdom was outside Edinburgh in 1971.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w there are many dotted around the country that all share specific characteristics that sets them aside from the normal industrial est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Greenfield Sites</a:t>
            </a:r>
            <a:endParaRPr b="0" lang="en-US" sz="4400" spc="-1" strike="noStrike">
              <a:solidFill>
                <a:srgbClr val="000000"/>
              </a:solidFill>
              <a:latin typeface="Calibri"/>
            </a:endParaRPr>
          </a:p>
        </p:txBody>
      </p:sp>
      <p:sp>
        <p:nvSpPr>
          <p:cNvPr id="46"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ience Parks are areas of industry that have grown up on Greenfield sites outside of major cities around the worl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nd is less costly than in the cities and the access to transport routes is a prime consideration in their loc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ten, Science Parks have a large amount of green land to try to make it as pleasant a working environment as possib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Business Park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siness Parks are very similar, however Science Parks have one other thing that sets them apar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usually have very close links to a major research institution, probably a universit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Britain a very good example is the Cambridge Science Par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Location</a:t>
            </a:r>
            <a:endParaRPr b="0" lang="en-US" sz="4400" spc="-1" strike="noStrike">
              <a:solidFill>
                <a:srgbClr val="000000"/>
              </a:solidFill>
              <a:latin typeface="Calibri"/>
            </a:endParaRPr>
          </a:p>
        </p:txBody>
      </p:sp>
      <p:sp>
        <p:nvSpPr>
          <p:cNvPr id="50"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mbridge is a perfect location for the types of hi-tech, often quaternary industries that locate ther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11 offers a very quick route to London and beyond.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stead airport is 30 minutes down the motorway. There are close links with the university, allowing researchers from there to work in tandem with researchers from the companies of the Science Park.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ch of the work is research and development in areas such as pharmaceuticals and micro-electronic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7T04:16:58Z</dcterms:created>
  <dc:creator>Dell_02</dc:creator>
  <dc:description/>
  <dc:language>en-US</dc:language>
  <cp:lastModifiedBy>Dell_02</cp:lastModifiedBy>
  <dcterms:modified xsi:type="dcterms:W3CDTF">2011-01-27T04:21:52Z</dcterms:modified>
  <cp:revision>1</cp:revision>
  <dc:subject/>
  <dc:title>Science Parks</dc:title>
</cp:coreProperties>
</file>